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914F-B55F-4AAC-A42A-DEB589B8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AA57-F4F0-4FA3-82EF-8FD7FECF5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CCB-DE32-4FB2-B280-FFC4F5E96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9E9A-49D7-4AA1-8CD7-24B71F52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DAF9-297D-46B4-9559-C2787FFD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C6BA8-CED8-4288-B2AD-9A6C803A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DC95F-9002-4E65-B1B4-A16B4F47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E9E6-6952-40AB-AB13-CBF614B0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8463-68C8-47E5-89A0-B2C20E6E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8705-8E4D-4443-99F5-6C05CADD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79FB-CB6C-4314-BFE8-C75DFB072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1AB2-A334-4416-B077-3CC08BEC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324D-C6FA-4905-A10E-960818D5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ABF8-4A2F-412B-A5A2-53E922244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9B80-4E53-45C3-BD14-177C98EF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4AF3-3071-4D50-A128-B8C42EE28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A352F-1449-4D04-AC14-D93764D1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678-E457-4D17-A94B-8470E3070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06DB-1545-475A-8C3B-E5A80820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055D-C16E-40CC-A5EF-482A1E0F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DC8A-AB74-41BB-9365-2A43B6B5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EF31-D03C-4CFF-915B-55511141D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CBF-F828-44BA-A574-E03B5410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C9B-5EFD-40E5-AC99-A61D199D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30A5-2971-474E-8080-B2B4147AC9E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6CC9-D809-4E90-85DA-165C44149DC8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87840" y="0"/>
            <a:ext cx="48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eep one’s word/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0520" y="457200"/>
            <a:ext cx="78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ust keep your word if you promi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the children to the cin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5200" y="144792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kept my word to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7000" y="2057400"/>
            <a:ext cx="307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pon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07920" y="20574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真的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发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1240" y="2514600"/>
            <a:ext cx="74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pon my word,this is an interesting s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2971800"/>
            <a:ext cx="42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eak one’s word to s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47160" y="3048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失信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3680" y="3505320"/>
            <a:ext cx="223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v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4320" y="3581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留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00" y="3962520"/>
            <a:ext cx="289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65600" y="4038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保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3962520"/>
            <a:ext cx="31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prom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2240" y="4572000"/>
            <a:ext cx="35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comes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98240" y="47242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消息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5240" y="510552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t one’s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518148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记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收回前言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道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84600" y="5562720"/>
            <a:ext cx="71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said he would throw me downstair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t I made him eat his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736640" y="4492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430640" y="399960"/>
            <a:ext cx="272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Indeed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24640" y="1390680"/>
            <a:ext cx="48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es,she is honest indeed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24280" y="2305080"/>
            <a:ext cx="472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like it very much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23200" y="3295800"/>
            <a:ext cx="43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’ve very gla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70920" y="4210200"/>
            <a:ext cx="619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friend in need is a friend ind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793880" y="457200"/>
            <a:ext cx="433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“确实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72560" y="1066680"/>
            <a:ext cx="353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进一步说明对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表示惊奇或含蓄的怀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7560" y="1905120"/>
            <a:ext cx="417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eed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放于句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常用于肯定对方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加强自己的语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74040" y="2762280"/>
            <a:ext cx="53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ely you don’t believ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25720" y="3448080"/>
            <a:ext cx="34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ill surely w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120680" y="4133880"/>
            <a:ext cx="46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 you really want to g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22840" y="4971960"/>
            <a:ext cx="499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ally doesn’t know 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521360" y="457200"/>
            <a:ext cx="30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  n.  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139760" y="1371600"/>
            <a:ext cx="511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remarks on /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00800" y="1371600"/>
            <a:ext cx="21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.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加以评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18280" y="2000160"/>
            <a:ext cx="603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kept making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6480" y="2762280"/>
            <a:ext cx="77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ople made rude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marks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d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92080" y="3371760"/>
            <a:ext cx="637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remark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had better st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6720" y="4191120"/>
            <a:ext cx="669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would be rude to remark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up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200600" y="704880"/>
            <a:ext cx="26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light  vt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84960" y="1371600"/>
            <a:ext cx="728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them with his perform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62360" y="2057400"/>
            <a:ext cx="59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r visit last week delighted 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37960" y="27432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news delighted the whol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37240" y="3352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delighted at the 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90400" y="4038480"/>
            <a:ext cx="230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seeing 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187160" y="4724280"/>
            <a:ext cx="471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 my second article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akespe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68760" y="552600"/>
            <a:ext cx="29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.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对…很喜欢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以…为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24280" y="2000160"/>
            <a:ext cx="43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elighted in scand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123200" y="2838600"/>
            <a:ext cx="576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seem to delight in kee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one else wai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88320" y="2022480"/>
            <a:ext cx="179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对丑闻津津乐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59000" y="4079880"/>
            <a:ext cx="30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们好象以让别人都等着他们为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906120" y="609480"/>
            <a:ext cx="77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were all 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receiv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r let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84240" y="1219320"/>
            <a:ext cx="55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lighte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o hea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say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12520" y="1752480"/>
            <a:ext cx="834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re delighted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have won the vi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8640" y="243828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lighted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were successfu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0320" y="3276720"/>
            <a:ext cx="36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n. Take delight i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857480" y="3276720"/>
            <a:ext cx="19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乐于干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爱好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4120" y="4038480"/>
            <a:ext cx="49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takes delight in rea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4038480"/>
            <a:ext cx="29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enjoys 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89280" y="4724280"/>
            <a:ext cx="296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o one’s de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85320" y="5410080"/>
            <a:ext cx="723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our delight, we succeeded in winn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ma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127160" y="6015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55400" y="476280"/>
            <a:ext cx="17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91720" y="1542960"/>
            <a:ext cx="738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n he was riding along, the tyre bu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8160" y="2057400"/>
            <a:ext cx="48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heart burst with 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1960" y="2590920"/>
            <a:ext cx="772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hearing the news, they burst their sid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 laug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12240" y="3733920"/>
            <a:ext cx="460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iver burst its b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8200" y="4419720"/>
            <a:ext cx="50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/in +place = br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95680" y="4971960"/>
            <a:ext cx="44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into laughter/t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18640" y="5505480"/>
            <a:ext cx="47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out crying/laughing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1640" y="5486400"/>
            <a:ext cx="312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urst with 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1507320" y="476280"/>
            <a:ext cx="150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1.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n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98440" y="1695600"/>
            <a:ext cx="42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tha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 of env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0600" y="2381400"/>
            <a:ext cx="304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w I envy yo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99880" y="32958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envied us for our succ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72960" y="4210200"/>
            <a:ext cx="534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envy you your good fortu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196280" y="704880"/>
            <a:ext cx="608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2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n boar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adj. Adv. Prep-ph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6360" y="190512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hip had 500 passengers on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56000" y="2438280"/>
            <a:ext cx="71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were ten men on board the pla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880" y="304812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ll manage to get on board some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21880" y="375300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69520" y="3774960"/>
            <a:ext cx="31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飞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登船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97120" y="4362480"/>
            <a:ext cx="251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34400" y="438480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在会上讨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布告牌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73800" y="5124600"/>
            <a:ext cx="26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n the bo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236840" y="507060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做演员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戏台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201680" y="399960"/>
            <a:ext cx="229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3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ak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042560" y="1390680"/>
            <a:ext cx="717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il was leaking out of a hole in the ta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45080" y="222876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one in the ministry had leake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ory to the pres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8040" y="3448080"/>
            <a:ext cx="647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 has leaked out that they intend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 the arms bud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125360" y="4667400"/>
            <a:ext cx="24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.  a gas lea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76200" y="5505480"/>
            <a:ext cx="423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eak of nuclear wa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78720" y="628560"/>
            <a:ext cx="269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short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0600" y="630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简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55040" y="131436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93240" y="13161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换言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8000" y="2076480"/>
            <a:ext cx="28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 / one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06560" y="207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总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53960" y="2685960"/>
            <a:ext cx="28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for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65800" y="2631960"/>
            <a:ext cx="125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逐字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字不差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08760" y="3448080"/>
            <a:ext cx="17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1640" y="354636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言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8600" y="4286160"/>
            <a:ext cx="48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out a word of ap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94040" y="5202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一句道歉的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655640" y="552600"/>
            <a:ext cx="450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4. (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) on the point of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135080" y="1219320"/>
            <a:ext cx="73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just on the point of going when yo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me in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5560" y="1676520"/>
            <a:ext cx="528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was just going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738160" y="2057400"/>
            <a:ext cx="552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about to go out…whe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19600" y="2685960"/>
            <a:ext cx="7693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was on the point of giving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game when our team scored two poi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45080" y="3981600"/>
            <a:ext cx="65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ick man is at the point of d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80400" y="476280"/>
            <a:ext cx="36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5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Take charge (o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18840" y="990720"/>
            <a:ext cx="62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responsible for, be 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4360" y="2076480"/>
            <a:ext cx="63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 Wang took charge of our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1720" y="299088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aunt was in charge of my bab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0640" y="3753000"/>
            <a:ext cx="741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baby was in the charge of my 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91360" y="4514760"/>
            <a:ext cx="66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he teacher in charge of Class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968760" y="520056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each take charge of the less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 three cla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35560" y="247680"/>
            <a:ext cx="207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6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ill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46520" y="1162080"/>
            <a:ext cx="47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a man of strong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121040" y="1924200"/>
            <a:ext cx="647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ere there is a will, there is a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71640" y="2685960"/>
            <a:ext cx="44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gainst his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99760" y="26877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非出于自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68760" y="3219480"/>
            <a:ext cx="483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may go or sta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w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30800" y="3220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38289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did it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my own wi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975640" y="385128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愿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心所愿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47240" y="4591080"/>
            <a:ext cx="46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no will of his 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242040" y="46688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没有主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73280" y="457200"/>
            <a:ext cx="283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7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Crazy 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37240" y="1143000"/>
            <a:ext cx="614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rom then on he went crazy/ m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0120" y="18288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were crazy to lend that man your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40520" y="2305080"/>
            <a:ext cx="53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 was crazy of you to len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0000" y="281952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rushed towards the river bank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ke craz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07920" y="331776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疯狂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拼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960" y="4057560"/>
            <a:ext cx="58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e crazy abou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op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63960" y="4059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着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2200" y="4819680"/>
            <a:ext cx="26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ive sb craz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233600" y="48974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把某人逼得发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67080" y="5505480"/>
            <a:ext cx="32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razy with jo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26920" y="5506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欣喜若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52480" y="91440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76920" y="1085760"/>
            <a:ext cx="24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8. Scold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4200" y="1981080"/>
            <a:ext cx="76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colded him for having left 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840" y="2590920"/>
            <a:ext cx="7279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scolded yesterday for having le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oor op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76560" y="4133880"/>
            <a:ext cx="456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cold sb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351080" y="504828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b be/get scolded for sth/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653120" y="933480"/>
            <a:ext cx="578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ot a good scolding for l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72600" y="1847880"/>
            <a:ext cx="6970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mother gave him a scolding for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ing dis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63080" y="2743200"/>
            <a:ext cx="39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et a scolding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84800" y="2819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挨一顿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10440" y="320040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Give sb a scolding for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45240" y="3276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某事训斥某人一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4880" y="46404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88920" y="380988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cold/blame sb for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66320" y="4419720"/>
            <a:ext cx="29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lame sth on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853880" y="44956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…归咎到某人的头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4920" y="5562720"/>
            <a:ext cx="223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Be to bl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21400" y="4971960"/>
            <a:ext cx="67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no use blaming our defeat on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7520" y="5505480"/>
            <a:ext cx="27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is to bl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12240" y="3851280"/>
            <a:ext cx="15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…而责备某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446120" y="533520"/>
            <a:ext cx="290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9.Shoulder  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060560" y="1143000"/>
            <a:ext cx="729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ave the child a ride on his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84960" y="1752480"/>
            <a:ext cx="65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ook the task on my own should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5240" y="2362320"/>
            <a:ext cx="38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to shoul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908640" y="2971800"/>
            <a:ext cx="713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teacher patted him on the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84240" y="3581280"/>
            <a:ext cx="758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must fight against the enemy should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shoul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8960" y="4648320"/>
            <a:ext cx="82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glanced over his shoulder, but saw no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08640" y="5181480"/>
            <a:ext cx="6936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ny of us would rather someone e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houlde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ponsi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04800" y="56577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2113920" y="476280"/>
            <a:ext cx="33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0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adily    ad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13560" y="1905120"/>
            <a:ext cx="62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health is getting steadily wor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2480" y="2743200"/>
            <a:ext cx="673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lked /drove/rode on steadily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92400" y="441972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work stead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189880" y="781200"/>
            <a:ext cx="34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21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Definite   adj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97000" y="192420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t’s definite/sure/certain that he will co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887480" y="184788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73840" y="184788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73680" y="2610000"/>
            <a:ext cx="64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plans are now perfectly defin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122840" y="3524400"/>
            <a:ext cx="538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s definite about my pla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02040" y="4438800"/>
            <a:ext cx="383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in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293840" y="53341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definite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99880" y="552600"/>
            <a:ext cx="511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Change’s one’s mind/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20320" y="1467000"/>
            <a:ext cx="78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ad planned to spend the holiday with 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sin, but now I have changed my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0600" y="2610000"/>
            <a:ext cx="810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you have made a decision, you’d better no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ange your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16840" y="3676680"/>
            <a:ext cx="546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d like to change this for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89920" y="4438800"/>
            <a:ext cx="649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ease change a $5000 note into go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91360" y="5124600"/>
            <a:ext cx="728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ant to change seats with my neighb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27160" y="449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48200" y="324000"/>
            <a:ext cx="693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nyh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in any way, by any mea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an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95200" y="1771560"/>
            <a:ext cx="720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ve tried, but I can’t manage i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3280" y="2457360"/>
            <a:ext cx="737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hall go anyhow-whether it rains or n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6600" y="3143160"/>
            <a:ext cx="773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may not like my visit, but I shall go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e him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91360" y="4362480"/>
            <a:ext cx="77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clothes were thrown down just anyh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01680" y="628560"/>
            <a:ext cx="447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4.Argum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=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22120" y="1542960"/>
            <a:ext cx="66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were busy with their argu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83160" y="2057400"/>
            <a:ext cx="677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s argument is that it is now too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19960" y="2610000"/>
            <a:ext cx="645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should try to settle the affair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gument, not by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9960" y="3753000"/>
            <a:ext cx="558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--talk angrily with s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cause you don’t ag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19600" y="4971960"/>
            <a:ext cx="76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often argue with my brother about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733040" y="704880"/>
            <a:ext cx="40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about/over sth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94320" y="706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某事争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840" y="1314360"/>
            <a:ext cx="645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students argued about/ove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rrectness of the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040" y="2362320"/>
            <a:ext cx="26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with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2040" y="2971800"/>
            <a:ext cx="81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argued with the taxi driver about the f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280" y="3524400"/>
            <a:ext cx="534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Argue sb into/out of doing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6640" y="4038480"/>
            <a:ext cx="405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ersuade/talk/rea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38360" y="4514760"/>
            <a:ext cx="753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argued him into/out of leaving his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25720" y="476280"/>
            <a:ext cx="373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3920" y="154296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sunderstandings between n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y lead to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85320" y="2666880"/>
            <a:ext cx="63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Have a misunderstanding about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26320" y="331776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对…产生误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误解某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46160" y="4210200"/>
            <a:ext cx="711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think we just had a misunderstan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out your ide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353960" y="628560"/>
            <a:ext cx="30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6. Ashamed  adj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48920" y="1619280"/>
            <a:ext cx="654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e you ashamed of having done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72240" y="2228760"/>
            <a:ext cx="741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of your behavi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1800" y="3143160"/>
            <a:ext cx="520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ashamed for what I s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00480" y="4362480"/>
            <a:ext cx="510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of/at + n./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or what-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85680" y="762120"/>
            <a:ext cx="70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 be ashamed to tell such l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82800" y="1600200"/>
            <a:ext cx="744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’m quite ashamed to have to trouble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50320" y="2209680"/>
            <a:ext cx="38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o do s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56720" y="3124080"/>
            <a:ext cx="59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shamed that he had l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160" y="3733920"/>
            <a:ext cx="74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felt ashamed that he had done so lit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522080" y="4419720"/>
            <a:ext cx="34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e ashamed that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3440" y="5276880"/>
            <a:ext cx="391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made him asham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</cp:lastModifiedBy>
  <dcterms:modified xsi:type="dcterms:W3CDTF">2004-10-10T11:49:27Z</dcterms:modified>
  <cp:revision>4</cp:revision>
  <dc:subject/>
  <dc:title>PowerPoint Presentation</dc:title>
</cp:coreProperties>
</file>